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FDA-E969-439F-A084-AE7D500E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D62-7D87-4553-A8D3-5161E2C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737-D535-462F-A080-4D7DB9E3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C21-9137-47E8-85C7-3BC2EFDB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872-C810-49EF-9AF6-C0736236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EC3-5ADB-4DA2-8723-3F328C90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AB3-0F0B-43D6-B1D0-65D8A3FF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30C-86FD-47A6-81DB-A405457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7BD-FF7B-4000-9A03-2A89E21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264-ED8E-4F36-87D2-EAA9476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4F2-0FA6-4C25-AFA5-AF86D96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C64-136D-4A02-B9B8-B674508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F8511-EE20-4A55-A828-A7F2A98EBCC1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Verdana"/>
              </a:rPr>
              <a:t>Afin de connaître le cours vous allez recopier sur votre feuille certaines parties du cours qui vont s’afficher sur l’écra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743200"/>
            <a:ext cx="59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caff"/>
                </a:solidFill>
                <a:latin typeface="Times New Roman"/>
                <a:ea typeface="Times New Roman"/>
              </a:rPr>
              <a:t>les</a:t>
            </a:r>
            <a:r>
              <a:rPr b="0" lang="en-GB" sz="2400" spc="-1" strike="noStrike">
                <a:solidFill>
                  <a:srgbClr val="83ca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83caff"/>
                </a:solidFill>
                <a:latin typeface="Times New Roman"/>
                <a:ea typeface="Times New Roman"/>
              </a:rPr>
              <a:t>3 dimensions de la pièce sont</a:t>
            </a:r>
            <a:r>
              <a:rPr b="0" lang="en-GB" sz="2400" spc="-1" strike="noStrike">
                <a:solidFill>
                  <a:srgbClr val="83ca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83caff"/>
                </a:solidFill>
                <a:latin typeface="Times New Roman"/>
                <a:ea typeface="Times New Roman"/>
              </a:rPr>
              <a:t>déform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133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s parties à recopier sont écrites comme cec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5053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Verdana"/>
              </a:rPr>
              <a:t>Pour avancer, cliquer sur votre clavier sur la flèch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4038480"/>
            <a:ext cx="7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800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Verdana"/>
              </a:rPr>
              <a:t>Pour revenir en arrière, cliquer sur votre clavier sur la flèch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5410080"/>
            <a:ext cx="7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1763640"/>
            <a:ext cx="439092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715000"/>
            <a:ext cx="1447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v. de 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a place de l’observateur a donné le nom de la v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3526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054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→ </a:t>
            </a:r>
            <a:r>
              <a:rPr b="1" lang="en-GB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observateur en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FACE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e la piè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84720" y="1800360"/>
            <a:ext cx="439092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35268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ue de gau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054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→ </a:t>
            </a:r>
            <a:r>
              <a:rPr b="1" lang="en-GB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observateur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à GAUCHE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e la piè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a place de l’observateur a donné le nom de la v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514600"/>
            <a:ext cx="205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. de gau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295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a place de la vue par rapport à la vue de face est inverse du nom de la v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133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ue de gauch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133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ffcc"/>
                </a:solidFill>
                <a:latin typeface="Verdana"/>
              </a:rPr>
              <a:t>à DROITE de la vue de 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7720" y="2952720"/>
            <a:ext cx="601992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a place de la vue par rapport à la vue de face est inverse du nom de la v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12640" y="3352680"/>
            <a:ext cx="3652920" cy="1145520"/>
            <a:chOff x="512640" y="3352680"/>
            <a:chExt cx="3652920" cy="1145520"/>
          </a:xfrm>
        </p:grpSpPr>
        <p:sp>
          <p:nvSpPr>
            <p:cNvPr id="142" name=""/>
            <p:cNvSpPr/>
            <p:nvPr/>
          </p:nvSpPr>
          <p:spPr>
            <a:xfrm>
              <a:off x="1046160" y="3352680"/>
              <a:ext cx="2205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</a:rPr>
                <a:t>vue de dro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2640" y="4038480"/>
              <a:ext cx="3652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à gauche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ff"/>
                  </a:solidFill>
                  <a:latin typeface="Times New Roman"/>
                </a:rPr>
                <a:t>de la vue de 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14440" y="3352680"/>
            <a:ext cx="3652920" cy="1145520"/>
            <a:chOff x="514440" y="3352680"/>
            <a:chExt cx="3652920" cy="1145520"/>
          </a:xfrm>
        </p:grpSpPr>
        <p:sp>
          <p:nvSpPr>
            <p:cNvPr id="145" name=""/>
            <p:cNvSpPr/>
            <p:nvPr/>
          </p:nvSpPr>
          <p:spPr>
            <a:xfrm>
              <a:off x="1047600" y="3352680"/>
              <a:ext cx="2205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</a:rPr>
                <a:t>vue de gauc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440" y="4038480"/>
              <a:ext cx="3652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à </a:t>
              </a: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droite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ff"/>
                  </a:solidFill>
                  <a:latin typeface="Times New Roman"/>
                </a:rPr>
                <a:t>de la vue 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4440" y="3367080"/>
            <a:ext cx="3652920" cy="1145520"/>
            <a:chOff x="514440" y="3367080"/>
            <a:chExt cx="3652920" cy="1145520"/>
          </a:xfrm>
        </p:grpSpPr>
        <p:sp>
          <p:nvSpPr>
            <p:cNvPr id="148" name=""/>
            <p:cNvSpPr/>
            <p:nvPr/>
          </p:nvSpPr>
          <p:spPr>
            <a:xfrm>
              <a:off x="1047600" y="3367080"/>
              <a:ext cx="2205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</a:rPr>
                <a:t>vue de dess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4440" y="4052880"/>
              <a:ext cx="3652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au-dessous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ff"/>
                  </a:solidFill>
                  <a:latin typeface="Times New Roman"/>
                </a:rPr>
                <a:t>de la vue 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9120" y="3367080"/>
            <a:ext cx="3652920" cy="1145520"/>
            <a:chOff x="519120" y="3367080"/>
            <a:chExt cx="3652920" cy="1145520"/>
          </a:xfrm>
        </p:grpSpPr>
        <p:sp>
          <p:nvSpPr>
            <p:cNvPr id="151" name=""/>
            <p:cNvSpPr/>
            <p:nvPr/>
          </p:nvSpPr>
          <p:spPr>
            <a:xfrm>
              <a:off x="1052640" y="3367080"/>
              <a:ext cx="2205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</a:rPr>
                <a:t>vue de dess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9120" y="4052880"/>
              <a:ext cx="3652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au-dessus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ff"/>
                  </a:solidFill>
                  <a:latin typeface="Times New Roman"/>
                </a:rPr>
                <a:t>de la vue de 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9280" y="2100240"/>
            <a:ext cx="2197080" cy="4633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40360" y="4224240"/>
            <a:ext cx="1871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847880"/>
            <a:ext cx="2519640" cy="5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Vue de dess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fill="hold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0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295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a place de la vue par rapport à la vue de face est inverse du nom de la v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3095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ur dessiner une pièce,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83caff"/>
                </a:solidFill>
                <a:latin typeface="Times New Roman"/>
              </a:rPr>
              <a:t>il faut imaginer les mouvements de cette piè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76160" y="1784520"/>
            <a:ext cx="7620120" cy="5019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D’où le nom des v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vue de dro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imes New Roman"/>
              </a:rPr>
              <a:t>vue de gau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vue de dess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029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vue de derr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5627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Complétez votre dess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98800" y="1143000"/>
            <a:ext cx="36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Arête visible ou cach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68600"/>
            <a:ext cx="82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rsqu’une arête est visible,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ffcc"/>
                </a:solidFill>
                <a:latin typeface="Times New Roman"/>
              </a:rPr>
              <a:t>elle est dessinée en TRAIT 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155680"/>
            <a:ext cx="89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rsqu’une arête est cachée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ccff"/>
                </a:solidFill>
                <a:latin typeface="Times New Roman"/>
              </a:rPr>
              <a:t>elle est dessinée en TRAIT POINTIL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4062240"/>
            <a:ext cx="163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étez votre des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7120" y="2766960"/>
            <a:ext cx="527688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42880" y="2401920"/>
            <a:ext cx="5432760" cy="3970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es 4 vues suivantes sont alignées horizontalem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62360" y="5181480"/>
            <a:ext cx="3618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Times New Roman"/>
              </a:rPr>
              <a:t>ligne de correspondance horizont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ffcc"/>
                </a:solidFill>
                <a:latin typeface="Times New Roman"/>
              </a:rPr>
              <a:t>Vue droite, vue de face, vue de gauche et vue de derriè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47920" y="4102200"/>
            <a:ext cx="5405400" cy="833400"/>
            <a:chOff x="1447920" y="4102200"/>
            <a:chExt cx="5405400" cy="833400"/>
          </a:xfrm>
        </p:grpSpPr>
        <p:sp>
          <p:nvSpPr>
            <p:cNvPr id="186" name=""/>
            <p:cNvSpPr/>
            <p:nvPr/>
          </p:nvSpPr>
          <p:spPr>
            <a:xfrm>
              <a:off x="1447920" y="4935600"/>
              <a:ext cx="5405400" cy="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4102200"/>
              <a:ext cx="5405400" cy="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13040" y="2509920"/>
            <a:ext cx="5359320" cy="3917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es 3 vues suivantes sont alignées verticalem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175248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ffcc"/>
                </a:solidFill>
                <a:latin typeface="Times New Roman"/>
              </a:rPr>
              <a:t>Vue de face, vue de dessus et vue de desso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8720" y="5113440"/>
            <a:ext cx="2313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Times New Roman"/>
              </a:rPr>
              <a:t>ligne de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66ff"/>
                </a:solidFill>
                <a:latin typeface="Times New Roman"/>
              </a:rPr>
              <a:t>correspondance verti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26000" y="2522520"/>
            <a:ext cx="833400" cy="3881520"/>
            <a:chOff x="3726000" y="2522520"/>
            <a:chExt cx="833400" cy="3881520"/>
          </a:xfrm>
        </p:grpSpPr>
        <p:sp>
          <p:nvSpPr>
            <p:cNvPr id="195" name=""/>
            <p:cNvSpPr/>
            <p:nvPr/>
          </p:nvSpPr>
          <p:spPr>
            <a:xfrm>
              <a:off x="3726000" y="2522520"/>
              <a:ext cx="0" cy="38815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59400" y="2522520"/>
              <a:ext cx="0" cy="38815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3139920" y="5181480"/>
            <a:ext cx="586080" cy="29376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36720" y="1679400"/>
            <a:ext cx="6372000" cy="465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Il existe une 3ème correspondance dite à 45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51656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gne de correspondance verti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594400"/>
            <a:ext cx="2827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ligne de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correspondance à 45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623268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ligne à 45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0" y="3657600"/>
            <a:ext cx="998640" cy="2509920"/>
            <a:chOff x="4572000" y="3657600"/>
            <a:chExt cx="998640" cy="2509920"/>
          </a:xfrm>
        </p:grpSpPr>
        <p:sp>
          <p:nvSpPr>
            <p:cNvPr id="206" name=""/>
            <p:cNvSpPr/>
            <p:nvPr/>
          </p:nvSpPr>
          <p:spPr>
            <a:xfrm>
              <a:off x="4572000" y="3657600"/>
              <a:ext cx="0" cy="151920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70640" y="3657600"/>
              <a:ext cx="0" cy="25099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47760" y="5168880"/>
            <a:ext cx="2509560" cy="998640"/>
            <a:chOff x="3047760" y="5168880"/>
            <a:chExt cx="2509560" cy="998640"/>
          </a:xfrm>
        </p:grpSpPr>
        <p:sp>
          <p:nvSpPr>
            <p:cNvPr id="209" name=""/>
            <p:cNvSpPr/>
            <p:nvPr/>
          </p:nvSpPr>
          <p:spPr>
            <a:xfrm flipH="1">
              <a:off x="3047760" y="6167520"/>
              <a:ext cx="2509560" cy="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047760" y="5168880"/>
              <a:ext cx="1521720" cy="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570560" y="5180040"/>
            <a:ext cx="990360" cy="990720"/>
          </a:xfrm>
          <a:prstGeom prst="line">
            <a:avLst/>
          </a:prstGeom>
          <a:ln w="1800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570640" y="5468760"/>
            <a:ext cx="604800" cy="293760"/>
          </a:xfrm>
          <a:prstGeom prst="line">
            <a:avLst/>
          </a:prstGeom>
          <a:ln w="18000">
            <a:solidFill>
              <a:srgbClr val="8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08360" y="5613120"/>
            <a:ext cx="360360" cy="65412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our représenter un objet on peut utiliser 3 modes de représent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200400"/>
            <a:ext cx="83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caff"/>
                </a:solidFill>
                <a:latin typeface="Verdana"/>
              </a:rPr>
              <a:t>Perspective, vue oblique et vues 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49440" y="1784520"/>
            <a:ext cx="8305560" cy="487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470844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gne de correspondance horizont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1656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gne de correspondance verti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48640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gne de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correspondance à 45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6232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ligne à 45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2578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gne de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correspondance verti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48610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gne de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correspondance horizont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1295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mplétez votre dess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43120" y="2890800"/>
            <a:ext cx="5181480" cy="3743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Règle des dimensions entre 2 vues non adjacent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600200"/>
            <a:ext cx="8686800" cy="99072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676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a largeur de la vue de gauche est égale à celle de la vue de droite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QUI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st égale à la hauteur de la vue de dessus et de dess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597560" y="3978000"/>
            <a:ext cx="795240" cy="461880"/>
            <a:chOff x="4597560" y="3978000"/>
            <a:chExt cx="795240" cy="461880"/>
          </a:xfrm>
        </p:grpSpPr>
        <p:sp>
          <p:nvSpPr>
            <p:cNvPr id="230" name=""/>
            <p:cNvSpPr/>
            <p:nvPr/>
          </p:nvSpPr>
          <p:spPr>
            <a:xfrm flipV="1">
              <a:off x="4597560" y="3978000"/>
              <a:ext cx="0" cy="4618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2800" y="3987720"/>
              <a:ext cx="0" cy="4492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97560" y="4140720"/>
              <a:ext cx="790560" cy="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78000" y="3998520"/>
            <a:ext cx="795240" cy="461880"/>
            <a:chOff x="2178000" y="3998520"/>
            <a:chExt cx="795240" cy="461880"/>
          </a:xfrm>
        </p:grpSpPr>
        <p:sp>
          <p:nvSpPr>
            <p:cNvPr id="234" name=""/>
            <p:cNvSpPr/>
            <p:nvPr/>
          </p:nvSpPr>
          <p:spPr>
            <a:xfrm flipV="1">
              <a:off x="2178000" y="3998520"/>
              <a:ext cx="0" cy="4618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973240" y="4011120"/>
              <a:ext cx="0" cy="4492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78000" y="4160880"/>
              <a:ext cx="790560" cy="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03120" y="5581440"/>
            <a:ext cx="465120" cy="798120"/>
            <a:chOff x="3003120" y="5581440"/>
            <a:chExt cx="465120" cy="798120"/>
          </a:xfrm>
        </p:grpSpPr>
        <p:sp>
          <p:nvSpPr>
            <p:cNvPr id="238" name=""/>
            <p:cNvSpPr/>
            <p:nvPr/>
          </p:nvSpPr>
          <p:spPr>
            <a:xfrm flipH="1" flipV="1">
              <a:off x="3003120" y="6372000"/>
              <a:ext cx="461880" cy="756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3018960" y="5581440"/>
              <a:ext cx="449280" cy="756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165480" y="5581440"/>
              <a:ext cx="1080" cy="79524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982600" y="3149640"/>
            <a:ext cx="466200" cy="797760"/>
            <a:chOff x="2982600" y="3149640"/>
            <a:chExt cx="466200" cy="797760"/>
          </a:xfrm>
        </p:grpSpPr>
        <p:sp>
          <p:nvSpPr>
            <p:cNvPr id="242" name=""/>
            <p:cNvSpPr/>
            <p:nvPr/>
          </p:nvSpPr>
          <p:spPr>
            <a:xfrm flipH="1" flipV="1">
              <a:off x="2982600" y="3939840"/>
              <a:ext cx="461880" cy="756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999880" y="3149640"/>
              <a:ext cx="448920" cy="792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145320" y="3149640"/>
              <a:ext cx="1080" cy="79704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6621480" cy="4782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1143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Les vues suivantes sont symét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33760" y="340668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v. de gau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3406680"/>
            <a:ext cx="15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v. de dro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19240" y="4978440"/>
            <a:ext cx="20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7826"/>
                </a:solidFill>
                <a:latin typeface="Times New Roman"/>
              </a:rPr>
              <a:t>v. de des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9240" y="187164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7826"/>
                </a:solidFill>
                <a:latin typeface="Times New Roman"/>
              </a:rPr>
              <a:t>v. de dess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19240" y="3406680"/>
            <a:ext cx="16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imes New Roman"/>
              </a:rPr>
              <a:t>v. de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6760" y="34066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imes New Roman"/>
              </a:rPr>
              <a:t>vue de derri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60720" y="4248000"/>
            <a:ext cx="2357280" cy="201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295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e symbole des vues européennes est le suiva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791320" y="5562720"/>
            <a:ext cx="2128320" cy="832680"/>
            <a:chOff x="5791320" y="5562720"/>
            <a:chExt cx="2128320" cy="832680"/>
          </a:xfrm>
        </p:grpSpPr>
        <p:sp>
          <p:nvSpPr>
            <p:cNvPr id="260" name=""/>
            <p:cNvSpPr/>
            <p:nvPr/>
          </p:nvSpPr>
          <p:spPr>
            <a:xfrm flipH="1" flipV="1">
              <a:off x="5791320" y="5785200"/>
              <a:ext cx="689760" cy="610200"/>
            </a:xfrm>
            <a:prstGeom prst="line">
              <a:avLst/>
            </a:prstGeom>
            <a:ln cap="sq" w="1908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0560" y="556272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ccff"/>
                  </a:solidFill>
                  <a:latin typeface="Times New Roman"/>
                </a:rPr>
                <a:t>vue de 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0880" y="5257800"/>
            <a:ext cx="2281320" cy="833040"/>
            <a:chOff x="380880" y="5257800"/>
            <a:chExt cx="2281320" cy="833040"/>
          </a:xfrm>
        </p:grpSpPr>
        <p:sp>
          <p:nvSpPr>
            <p:cNvPr id="263" name=""/>
            <p:cNvSpPr/>
            <p:nvPr/>
          </p:nvSpPr>
          <p:spPr>
            <a:xfrm flipV="1">
              <a:off x="1523880" y="5632920"/>
              <a:ext cx="1138320" cy="457920"/>
            </a:xfrm>
            <a:prstGeom prst="line">
              <a:avLst/>
            </a:prstGeom>
            <a:ln cap="sq" w="1908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880" y="5257800"/>
              <a:ext cx="197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ccff"/>
                  </a:solidFill>
                  <a:latin typeface="Times New Roman"/>
                </a:rPr>
                <a:t>vue de gauc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038400" y="2190600"/>
            <a:ext cx="2362320" cy="12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fill="hold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- L’Angleterre, l’Amérique, le Japon utilisent une autre norme, le symbole est le suiva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791320" y="5562720"/>
            <a:ext cx="2128320" cy="832680"/>
            <a:chOff x="5791320" y="5562720"/>
            <a:chExt cx="2128320" cy="832680"/>
          </a:xfrm>
        </p:grpSpPr>
        <p:sp>
          <p:nvSpPr>
            <p:cNvPr id="271" name=""/>
            <p:cNvSpPr/>
            <p:nvPr/>
          </p:nvSpPr>
          <p:spPr>
            <a:xfrm flipH="1" flipV="1">
              <a:off x="5791320" y="5785200"/>
              <a:ext cx="689760" cy="610200"/>
            </a:xfrm>
            <a:prstGeom prst="line">
              <a:avLst/>
            </a:prstGeom>
            <a:ln cap="sq" w="1908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00560" y="556272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ccff"/>
                  </a:solidFill>
                  <a:latin typeface="Times New Roman"/>
                </a:rPr>
                <a:t>vue de 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0880" y="5257800"/>
            <a:ext cx="2281320" cy="833040"/>
            <a:chOff x="380880" y="5257800"/>
            <a:chExt cx="2281320" cy="833040"/>
          </a:xfrm>
        </p:grpSpPr>
        <p:sp>
          <p:nvSpPr>
            <p:cNvPr id="274" name=""/>
            <p:cNvSpPr/>
            <p:nvPr/>
          </p:nvSpPr>
          <p:spPr>
            <a:xfrm flipV="1">
              <a:off x="1523880" y="5632920"/>
              <a:ext cx="1138320" cy="457920"/>
            </a:xfrm>
            <a:prstGeom prst="line">
              <a:avLst/>
            </a:prstGeom>
            <a:ln cap="sq" w="1908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5257800"/>
              <a:ext cx="197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ccff"/>
                  </a:solidFill>
                  <a:latin typeface="Times New Roman"/>
                </a:rPr>
                <a:t>vue de gauc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952720" y="230976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060720" y="4248000"/>
            <a:ext cx="235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fill="hold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00120" y="2376360"/>
            <a:ext cx="6061320" cy="437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36417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Times New Roman"/>
              </a:rPr>
              <a:t>v. de gau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6417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v. de dro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imes New Roman"/>
              </a:rPr>
              <a:t>v. de des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22860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v. de dess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3641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v. de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36417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. de derri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219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Times New Roman"/>
              </a:rPr>
              <a:t>- On n’écrira pas le nom des vues, sauf pour les premiers exerc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6765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Times New Roman"/>
              </a:rPr>
              <a:t>- On peut tracer les lignes de correspondance mais en trait f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36417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Times New Roman"/>
              </a:rPr>
              <a:t>vue de derri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700360" y="2389320"/>
            <a:ext cx="6048360" cy="4378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134040" y="828720"/>
            <a:ext cx="1901880" cy="1979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676840" y="3678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Times New Roman"/>
              </a:rPr>
              <a:t>v. de gau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33640" y="3678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v. de dro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05240" y="5065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imes New Roman"/>
              </a:rPr>
              <a:t>v. de des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05240" y="23223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v. de dess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367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v. de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2193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Times New Roman"/>
              </a:rPr>
              <a:t>Comment faire pour repérer un sommet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991040" y="4014720"/>
            <a:ext cx="366840" cy="398880"/>
            <a:chOff x="4991040" y="4014720"/>
            <a:chExt cx="366840" cy="398880"/>
          </a:xfrm>
        </p:grpSpPr>
        <p:sp>
          <p:nvSpPr>
            <p:cNvPr id="300" name=""/>
            <p:cNvSpPr/>
            <p:nvPr/>
          </p:nvSpPr>
          <p:spPr>
            <a:xfrm>
              <a:off x="4991040" y="4049640"/>
              <a:ext cx="108000" cy="12060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41800" y="4014720"/>
              <a:ext cx="3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16800" y="4043520"/>
            <a:ext cx="398520" cy="401760"/>
            <a:chOff x="7516800" y="4043520"/>
            <a:chExt cx="398520" cy="401760"/>
          </a:xfrm>
        </p:grpSpPr>
        <p:sp>
          <p:nvSpPr>
            <p:cNvPr id="303" name=""/>
            <p:cNvSpPr/>
            <p:nvPr/>
          </p:nvSpPr>
          <p:spPr>
            <a:xfrm>
              <a:off x="7807320" y="4043520"/>
              <a:ext cx="108000" cy="12060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6800" y="4046400"/>
              <a:ext cx="3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881440" y="4029120"/>
            <a:ext cx="382320" cy="402120"/>
            <a:chOff x="2881440" y="4029120"/>
            <a:chExt cx="382320" cy="402120"/>
          </a:xfrm>
        </p:grpSpPr>
        <p:sp>
          <p:nvSpPr>
            <p:cNvPr id="306" name=""/>
            <p:cNvSpPr/>
            <p:nvPr/>
          </p:nvSpPr>
          <p:spPr>
            <a:xfrm>
              <a:off x="3156120" y="4029120"/>
              <a:ext cx="107640" cy="12060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81440" y="403236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867360" y="4046400"/>
            <a:ext cx="341640" cy="398880"/>
            <a:chOff x="6867360" y="4046400"/>
            <a:chExt cx="341640" cy="398880"/>
          </a:xfrm>
        </p:grpSpPr>
        <p:sp>
          <p:nvSpPr>
            <p:cNvPr id="309" name=""/>
            <p:cNvSpPr/>
            <p:nvPr/>
          </p:nvSpPr>
          <p:spPr>
            <a:xfrm>
              <a:off x="6867360" y="4056120"/>
              <a:ext cx="108000" cy="12060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2920" y="4046400"/>
              <a:ext cx="3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998960" y="2635200"/>
            <a:ext cx="352440" cy="398880"/>
            <a:chOff x="4998960" y="2635200"/>
            <a:chExt cx="352440" cy="398880"/>
          </a:xfrm>
        </p:grpSpPr>
        <p:sp>
          <p:nvSpPr>
            <p:cNvPr id="312" name=""/>
            <p:cNvSpPr/>
            <p:nvPr/>
          </p:nvSpPr>
          <p:spPr>
            <a:xfrm>
              <a:off x="4998960" y="2638440"/>
              <a:ext cx="108000" cy="12060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5680" y="263520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011560" y="6089760"/>
            <a:ext cx="387360" cy="406440"/>
            <a:chOff x="5011560" y="6089760"/>
            <a:chExt cx="387360" cy="406440"/>
          </a:xfrm>
        </p:grpSpPr>
        <p:sp>
          <p:nvSpPr>
            <p:cNvPr id="315" name=""/>
            <p:cNvSpPr/>
            <p:nvPr/>
          </p:nvSpPr>
          <p:spPr>
            <a:xfrm>
              <a:off x="5011560" y="6375240"/>
              <a:ext cx="108000" cy="1209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83200" y="608976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236760" y="4105440"/>
            <a:ext cx="5077080" cy="14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54760" y="2685960"/>
            <a:ext cx="1440" cy="375120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1641600"/>
            <a:ext cx="23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On repère le point en vue de 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222264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99ffcc"/>
                </a:solidFill>
                <a:latin typeface="Times New Roman"/>
              </a:rPr>
              <a:t>Ensuite on repère en vue de derrière par symétr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2820960"/>
            <a:ext cx="23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is la vue de droite, à l’aide de la persp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320" y="3433680"/>
            <a:ext cx="23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99ffcc"/>
                </a:solidFill>
                <a:latin typeface="Times New Roman"/>
              </a:rPr>
              <a:t>Puis la vue de gauche par symétrie de la vue de 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423072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is la vue de dessus à l’aide de la persp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480060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99ffcc"/>
                </a:solidFill>
                <a:latin typeface="Times New Roman"/>
              </a:rPr>
              <a:t>Puis la vue de dessous par symétrie de la vue de 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5562720"/>
            <a:ext cx="222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On doit avoir un alignement horizontal et vertical du point dans les v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50040" y="367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Times New Roman"/>
              </a:rPr>
              <a:t>vue de derri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6ccff"/>
                </a:solidFill>
                <a:latin typeface="Times New Roman"/>
              </a:rPr>
              <a:t>vue de derriè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88000" y="1584360"/>
            <a:ext cx="432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36232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FIN LEÇ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32767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ur sortir de la leçon cliquez sur ce bou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endshow"/>
          </p:cNvPr>
          <p:cNvSpPr/>
          <p:nvPr/>
        </p:nvSpPr>
        <p:spPr>
          <a:xfrm>
            <a:off x="3352680" y="4343400"/>
            <a:ext cx="1752840" cy="685800"/>
          </a:xfrm>
          <a:custGeom>
            <a:avLst/>
            <a:gdLst>
              <a:gd name="textAreaLeft" fmla="*/ 171360 w 1752840"/>
              <a:gd name="textAreaRight" fmla="*/ 1581480 w 17528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49790" y="5400"/>
                </a:lnTo>
                <a:lnTo>
                  <a:pt x="5400" y="5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49790" y="16200"/>
                </a:lnTo>
                <a:lnTo>
                  <a:pt x="49790" y="5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9790" y="16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c0c0c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our représenter un objet on peut utiliser 3 modes de représent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19320" y="2514600"/>
            <a:ext cx="7000920" cy="3500280"/>
            <a:chOff x="1219320" y="2514600"/>
            <a:chExt cx="7000920" cy="350028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876920" y="2514600"/>
              <a:ext cx="334332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19320" y="3048120"/>
              <a:ext cx="212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La perspec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28600" y="2349000"/>
            <a:ext cx="8094600" cy="3762360"/>
            <a:chOff x="228600" y="2349000"/>
            <a:chExt cx="8094600" cy="3762360"/>
          </a:xfrm>
        </p:grpSpPr>
        <p:sp>
          <p:nvSpPr>
            <p:cNvPr id="59" name=""/>
            <p:cNvSpPr/>
            <p:nvPr/>
          </p:nvSpPr>
          <p:spPr>
            <a:xfrm>
              <a:off x="228600" y="4115520"/>
              <a:ext cx="4408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Sur une perspective </a:t>
              </a:r>
              <a:r>
                <a:rPr b="1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les</a:t>
              </a:r>
              <a:r>
                <a:rPr b="0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3 dimensions de la pièce sont</a:t>
              </a:r>
              <a:r>
                <a:rPr b="0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déformé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840280" y="2349000"/>
              <a:ext cx="547920" cy="3092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819320" y="2995200"/>
              <a:ext cx="493560" cy="28512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952880" y="2431080"/>
              <a:ext cx="1062000" cy="6188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747680" y="4961160"/>
              <a:ext cx="513000" cy="2570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071760" y="5788080"/>
              <a:ext cx="630360" cy="32328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898520" y="5168880"/>
              <a:ext cx="1395720" cy="82044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858080" y="4064400"/>
              <a:ext cx="465120" cy="25668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869240" y="4906800"/>
              <a:ext cx="452520" cy="2300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21600" y="4209120"/>
              <a:ext cx="0" cy="75708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our représenter un objet on peut utiliser 3 modes de représent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2819520"/>
            <a:ext cx="6852960" cy="2890800"/>
            <a:chOff x="1219320" y="2819520"/>
            <a:chExt cx="6852960" cy="2890800"/>
          </a:xfrm>
        </p:grpSpPr>
        <p:sp>
          <p:nvSpPr>
            <p:cNvPr id="73" name=""/>
            <p:cNvSpPr/>
            <p:nvPr/>
          </p:nvSpPr>
          <p:spPr>
            <a:xfrm>
              <a:off x="1219320" y="3048120"/>
              <a:ext cx="2280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la vue obl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0" t="-101" r="0" b="0"/>
            <a:stretch/>
          </p:blipFill>
          <p:spPr>
            <a:xfrm>
              <a:off x="4648320" y="2819520"/>
              <a:ext cx="3423960" cy="289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28600" y="2819160"/>
            <a:ext cx="7539120" cy="2814480"/>
            <a:chOff x="228600" y="2819160"/>
            <a:chExt cx="7539120" cy="2814480"/>
          </a:xfrm>
        </p:grpSpPr>
        <p:sp>
          <p:nvSpPr>
            <p:cNvPr id="76" name=""/>
            <p:cNvSpPr/>
            <p:nvPr/>
          </p:nvSpPr>
          <p:spPr>
            <a:xfrm>
              <a:off x="228600" y="4115520"/>
              <a:ext cx="421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Sur une vue oblique </a:t>
              </a:r>
              <a:r>
                <a:rPr b="1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2 dimensions de la pièce sont</a:t>
              </a:r>
              <a:r>
                <a:rPr b="0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83caff"/>
                  </a:solidFill>
                  <a:latin typeface="Times New Roman"/>
                  <a:ea typeface="Times New Roman"/>
                </a:rPr>
                <a:t>déformé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863320" y="2819160"/>
              <a:ext cx="0" cy="3092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024880" y="2819160"/>
              <a:ext cx="0" cy="3092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24880" y="2976480"/>
              <a:ext cx="833040" cy="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3320" y="5257800"/>
              <a:ext cx="0" cy="3758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67720" y="5257800"/>
              <a:ext cx="0" cy="37584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3320" y="5486400"/>
              <a:ext cx="1899360" cy="0"/>
            </a:xfrm>
            <a:prstGeom prst="line">
              <a:avLst/>
            </a:prstGeom>
            <a:ln cap="sq" w="255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our représenter un objet on peut utiliser 3 modes de représent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1148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r une vue principale </a:t>
            </a:r>
            <a:r>
              <a:rPr b="1" lang="en-GB" sz="2400" spc="-1" strike="noStrike">
                <a:solidFill>
                  <a:srgbClr val="83caff"/>
                </a:solidFill>
                <a:latin typeface="Times New Roman"/>
                <a:ea typeface="Times New Roman"/>
              </a:rPr>
              <a:t>aucune dimension de la pièce n’est déform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2880" y="3048120"/>
            <a:ext cx="280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 vues principal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791320"/>
            <a:ext cx="86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énéralement il faut 2, voir 3 vues principales, pour définir la piè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48000" y="2952720"/>
            <a:ext cx="433404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1371600"/>
            <a:ext cx="56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Times New Roman"/>
              </a:rPr>
              <a:t>Il existe d’autres modes de représentatio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971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caff"/>
                </a:solidFill>
                <a:latin typeface="Verdana"/>
              </a:rPr>
              <a:t>éclaté et écorch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4520" y="1371600"/>
            <a:ext cx="56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Times New Roman"/>
              </a:rPr>
              <a:t>Il existe d’autres modes de représentatio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8520" y="300816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un écla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21400" y="2124000"/>
            <a:ext cx="3203280" cy="4353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040" y="4010040"/>
            <a:ext cx="35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usieurs pièces en perspectives, facilitant la compréhension. Utilisé sur les revues techn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Différents modes de représentation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371600"/>
            <a:ext cx="56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Times New Roman"/>
              </a:rPr>
              <a:t>Il existe d’autres modes de représentatio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040" y="414648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e partie de la pièce est coupée pour voir l’intéri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98520" y="2286000"/>
            <a:ext cx="7307280" cy="3940200"/>
            <a:chOff x="1298520" y="2286000"/>
            <a:chExt cx="7307280" cy="3940200"/>
          </a:xfrm>
        </p:grpSpPr>
        <p:sp>
          <p:nvSpPr>
            <p:cNvPr id="105" name=""/>
            <p:cNvSpPr/>
            <p:nvPr/>
          </p:nvSpPr>
          <p:spPr>
            <a:xfrm>
              <a:off x="1298520" y="3008160"/>
              <a:ext cx="166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imes New Roman"/>
                </a:rPr>
                <a:t>un écorch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2286000"/>
              <a:ext cx="43387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90760" y="1828800"/>
            <a:ext cx="439092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685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Les 6 vues d'une piè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Times New Roman"/>
              </a:rPr>
              <a:t>Les 6 vues correspondent aux 6 positions d’observation de la piè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79132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v. de 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895480"/>
            <a:ext cx="205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. de gau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800600"/>
            <a:ext cx="1752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. de dro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867280"/>
            <a:ext cx="198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. de dess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666880"/>
            <a:ext cx="205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. de derr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828800"/>
            <a:ext cx="1828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v. de des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440" y="7632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imes New Roman"/>
              </a:rPr>
              <a:t>Leçon les 6 v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88620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mplétez votre per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2:01:02Z</dcterms:created>
  <dc:creator>jacques fraboulet</dc:creator>
  <dc:description/>
  <dc:language>en-US</dc:language>
  <cp:lastModifiedBy>Jacques</cp:lastModifiedBy>
  <dcterms:modified xsi:type="dcterms:W3CDTF">2008-09-08T14:38:24Z</dcterms:modified>
  <cp:revision>50</cp:revision>
  <dc:subject/>
  <dc:title>Présentation PowerPoint</dc:title>
</cp:coreProperties>
</file>