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071-C965-4414-8002-5296E1FB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031-CE1F-4FB6-AF65-6C8F0A6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0DB-C186-41C2-BB54-14796038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96C-07CB-43F4-BEDB-091F3E11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39F-2A47-4CA9-A85E-532791E3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9EF-A913-4930-BEDF-67A215B9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7E0-9CCF-4BDC-AF6E-78905EF2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1BF-E071-49B3-B78F-2AA4117A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622-26AE-4890-A34C-A781B1CB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9EF-787B-4B98-9F9C-5D73F73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7B5-E326-4261-9169-56B9D68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C7B-477E-4C81-BBED-0017437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A37-0514-4631-ADF2-5EC97723B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5200" y="242244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ercice vue de face N°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5228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rrection exercic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32220" t="29928" r="32220" b="29311"/>
          <a:stretch/>
        </p:blipFill>
        <p:spPr>
          <a:xfrm>
            <a:off x="380880" y="969840"/>
            <a:ext cx="84423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28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IN DE L’EXERC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walking" descr=""/>
          <p:cNvPicPr/>
          <p:nvPr/>
        </p:nvPicPr>
        <p:blipFill>
          <a:blip r:embed="rId1"/>
          <a:stretch/>
        </p:blipFill>
        <p:spPr>
          <a:xfrm>
            <a:off x="5900760" y="1447920"/>
            <a:ext cx="2679840" cy="267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84320" y="7632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ercice vue de face N°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0000" t="18018" r="26620" b="16735"/>
          <a:stretch/>
        </p:blipFill>
        <p:spPr>
          <a:xfrm>
            <a:off x="685800" y="0"/>
            <a:ext cx="8077320" cy="682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3078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v. de 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514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279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v. de dess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286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3063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v. de gau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7000" y="103500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gau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0639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cc"/>
                </a:solidFill>
                <a:latin typeface="Verdana"/>
              </a:rPr>
              <a:t>v. de 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330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cc"/>
                </a:solidFill>
                <a:latin typeface="Verdana"/>
              </a:rPr>
              <a:t>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861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Verdana"/>
              </a:rPr>
              <a:t>v. de 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8353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Verdana"/>
              </a:rPr>
              <a:t>dess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3063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. de derri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osition des vues et place de l’observ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8380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rri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4800" y="277920"/>
            <a:ext cx="20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2240" y="2263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31518" t="32438" r="33984" b="24777"/>
          <a:stretch/>
        </p:blipFill>
        <p:spPr>
          <a:xfrm>
            <a:off x="231840" y="777960"/>
            <a:ext cx="872316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1055" t="32618" r="34299" b="26391"/>
          <a:stretch/>
        </p:blipFill>
        <p:spPr>
          <a:xfrm>
            <a:off x="249120" y="941400"/>
            <a:ext cx="87058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3386" t="33234" r="31483" b="25696"/>
          <a:stretch/>
        </p:blipFill>
        <p:spPr>
          <a:xfrm>
            <a:off x="189000" y="893880"/>
            <a:ext cx="8840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Vue%20de%20face%202" descr=""/>
          <p:cNvPicPr/>
          <p:nvPr/>
        </p:nvPicPr>
        <p:blipFill>
          <a:blip r:embed="rId1"/>
          <a:stretch/>
        </p:blipFill>
        <p:spPr>
          <a:xfrm>
            <a:off x="2057400" y="1285920"/>
            <a:ext cx="4599000" cy="4292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40160" y="277920"/>
            <a:ext cx="33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orme de la piè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5228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rrection exercic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2350" t="26397" r="32350" b="26621"/>
          <a:stretch/>
        </p:blipFill>
        <p:spPr>
          <a:xfrm>
            <a:off x="434880" y="615960"/>
            <a:ext cx="838836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5228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rrection exercic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32126" t="29311" r="31780" b="29087"/>
          <a:stretch/>
        </p:blipFill>
        <p:spPr>
          <a:xfrm>
            <a:off x="318960" y="950760"/>
            <a:ext cx="85838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5:55:11Z</dcterms:created>
  <dc:creator>Jacques</dc:creator>
  <dc:description/>
  <dc:language>en-US</dc:language>
  <cp:lastModifiedBy>Jacques</cp:lastModifiedBy>
  <dcterms:modified xsi:type="dcterms:W3CDTF">2006-09-17T14:08:08Z</dcterms:modified>
  <cp:revision>18</cp:revision>
  <dc:subject/>
  <dc:title>Présentation PowerPoint</dc:title>
</cp:coreProperties>
</file>