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3F0-92BF-4CA5-A5BE-70F83331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3BE-436C-4A7C-86D3-EA0BE0FE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DD5-6BEF-43E5-8587-0583C647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27B-A0E9-481A-96D1-DB031F76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015-75F6-4290-9B66-FA422388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F23-A537-40CD-8092-FFB8B18E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A42-4F53-4A9D-BCCA-B2AEC89D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AFB-15EA-43A9-B080-E6AA29D4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2A8-D308-4800-AE8D-E9A80265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A36-B8B9-4E09-BD32-3E684BD6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CAF-4C40-4554-A3C5-3BFF170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53A-5AF3-4E1F-8C1D-9098EB47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95A1-AB8B-4490-AEC4-196664B48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5200" y="2422440"/>
            <a:ext cx="49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xercice vue de face N°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0000" t="18018" r="26620" b="16735"/>
          <a:stretch/>
        </p:blipFill>
        <p:spPr>
          <a:xfrm>
            <a:off x="685800" y="0"/>
            <a:ext cx="8077320" cy="6827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43200" y="3078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v. de 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514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279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v. de dess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286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dess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3063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v. de gau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37000" y="103500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gau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0639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cc"/>
                </a:solidFill>
                <a:latin typeface="Verdana"/>
              </a:rPr>
              <a:t>v. de dro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330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cc"/>
                </a:solidFill>
                <a:latin typeface="Verdana"/>
              </a:rPr>
              <a:t>dro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4861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Verdana"/>
              </a:rPr>
              <a:t>v. de dess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28353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Verdana"/>
              </a:rPr>
              <a:t>dess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3063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. de derriè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502920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osition des vues et place de l’observa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8380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rriè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4800" y="277920"/>
            <a:ext cx="20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RAPP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5984" t="27518" r="20447" b="14347"/>
          <a:stretch/>
        </p:blipFill>
        <p:spPr>
          <a:xfrm>
            <a:off x="0" y="914400"/>
            <a:ext cx="9118440" cy="556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152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Verdana"/>
              </a:rPr>
              <a:t>Exercic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5280" y="2066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43680" y="1576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2240" y="2263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07320" y="1959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52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cc"/>
                </a:solidFill>
                <a:latin typeface="Verdana"/>
              </a:rPr>
              <a:t>Exercic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3609" t="24032" r="25748" b="17727"/>
          <a:stretch/>
        </p:blipFill>
        <p:spPr>
          <a:xfrm>
            <a:off x="0" y="77004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56280" y="2130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82040" y="1022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72480" y="1440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5960" y="264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5984" t="25859" r="20447" b="14347"/>
          <a:stretch/>
        </p:blipFill>
        <p:spPr>
          <a:xfrm>
            <a:off x="0" y="755640"/>
            <a:ext cx="9118440" cy="5719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152280"/>
            <a:ext cx="39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rrection exercic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45326" t="41753" r="45326" b="41641"/>
          <a:stretch/>
        </p:blipFill>
        <p:spPr>
          <a:xfrm>
            <a:off x="7086600" y="2963880"/>
            <a:ext cx="1587600" cy="1582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44756" t="42095" r="44850" b="42095"/>
          <a:stretch/>
        </p:blipFill>
        <p:spPr>
          <a:xfrm>
            <a:off x="4708440" y="2994120"/>
            <a:ext cx="177012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45326" t="40632" r="45449" b="40862"/>
          <a:stretch/>
        </p:blipFill>
        <p:spPr>
          <a:xfrm>
            <a:off x="2541600" y="4586400"/>
            <a:ext cx="1565280" cy="1761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45280" y="2066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43680" y="1576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2240" y="2263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7320" y="1959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851040"/>
            <a:ext cx="8648640" cy="3911400"/>
            <a:chOff x="304920" y="851040"/>
            <a:chExt cx="8648640" cy="3911400"/>
          </a:xfrm>
        </p:grpSpPr>
        <p:sp>
          <p:nvSpPr>
            <p:cNvPr id="79" name=""/>
            <p:cNvSpPr/>
            <p:nvPr/>
          </p:nvSpPr>
          <p:spPr>
            <a:xfrm>
              <a:off x="2717640" y="2701800"/>
              <a:ext cx="13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v. de f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4120" y="271764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v. de gauch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271764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v. de droi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05040" y="85104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v. de desso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5040" y="439416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v. de dess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43840" y="271764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v. de derriè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5"/>
          <a:srcRect l="45672" t="39175" r="45795" b="41024"/>
          <a:stretch/>
        </p:blipFill>
        <p:spPr>
          <a:xfrm>
            <a:off x="2590920" y="954000"/>
            <a:ext cx="1450800" cy="189072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2514600" y="3646440"/>
            <a:ext cx="457200" cy="368280"/>
            <a:chOff x="2514600" y="3646440"/>
            <a:chExt cx="457200" cy="368280"/>
          </a:xfrm>
        </p:grpSpPr>
        <p:sp>
          <p:nvSpPr>
            <p:cNvPr id="87" name=""/>
            <p:cNvSpPr/>
            <p:nvPr/>
          </p:nvSpPr>
          <p:spPr>
            <a:xfrm>
              <a:off x="2514600" y="3646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3683160"/>
              <a:ext cx="7632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994120" y="4017960"/>
            <a:ext cx="457200" cy="368280"/>
            <a:chOff x="2994120" y="4017960"/>
            <a:chExt cx="457200" cy="368280"/>
          </a:xfrm>
        </p:grpSpPr>
        <p:sp>
          <p:nvSpPr>
            <p:cNvPr id="90" name=""/>
            <p:cNvSpPr/>
            <p:nvPr/>
          </p:nvSpPr>
          <p:spPr>
            <a:xfrm>
              <a:off x="2994120" y="4017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94000" y="4229280"/>
              <a:ext cx="7632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17800" y="4170240"/>
            <a:ext cx="547920" cy="368280"/>
            <a:chOff x="3817800" y="4170240"/>
            <a:chExt cx="547920" cy="368280"/>
          </a:xfrm>
        </p:grpSpPr>
        <p:sp>
          <p:nvSpPr>
            <p:cNvPr id="93" name=""/>
            <p:cNvSpPr/>
            <p:nvPr/>
          </p:nvSpPr>
          <p:spPr>
            <a:xfrm>
              <a:off x="3908520" y="417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17800" y="4245120"/>
              <a:ext cx="7632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375760" y="3668760"/>
            <a:ext cx="495360" cy="368280"/>
            <a:chOff x="8375760" y="3668760"/>
            <a:chExt cx="495360" cy="368280"/>
          </a:xfrm>
        </p:grpSpPr>
        <p:sp>
          <p:nvSpPr>
            <p:cNvPr id="96" name=""/>
            <p:cNvSpPr/>
            <p:nvPr/>
          </p:nvSpPr>
          <p:spPr>
            <a:xfrm>
              <a:off x="8413920" y="3668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75760" y="3705120"/>
              <a:ext cx="75960" cy="763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854840" y="4232160"/>
            <a:ext cx="500040" cy="373320"/>
            <a:chOff x="7854840" y="4232160"/>
            <a:chExt cx="500040" cy="373320"/>
          </a:xfrm>
        </p:grpSpPr>
        <p:sp>
          <p:nvSpPr>
            <p:cNvPr id="99" name=""/>
            <p:cNvSpPr/>
            <p:nvPr/>
          </p:nvSpPr>
          <p:spPr>
            <a:xfrm>
              <a:off x="7897680" y="4237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4840" y="4232160"/>
              <a:ext cx="76320" cy="763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081920" y="4233960"/>
            <a:ext cx="457200" cy="368280"/>
            <a:chOff x="7081920" y="4233960"/>
            <a:chExt cx="457200" cy="368280"/>
          </a:xfrm>
        </p:grpSpPr>
        <p:sp>
          <p:nvSpPr>
            <p:cNvPr id="102" name=""/>
            <p:cNvSpPr/>
            <p:nvPr/>
          </p:nvSpPr>
          <p:spPr>
            <a:xfrm>
              <a:off x="7081920" y="4233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21680" y="4245120"/>
              <a:ext cx="7596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227640" y="3673440"/>
            <a:ext cx="520920" cy="368280"/>
            <a:chOff x="6227640" y="3673440"/>
            <a:chExt cx="520920" cy="368280"/>
          </a:xfrm>
        </p:grpSpPr>
        <p:sp>
          <p:nvSpPr>
            <p:cNvPr id="105" name=""/>
            <p:cNvSpPr/>
            <p:nvPr/>
          </p:nvSpPr>
          <p:spPr>
            <a:xfrm>
              <a:off x="6291360" y="3673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3710160"/>
              <a:ext cx="7632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240600" y="4241880"/>
            <a:ext cx="500040" cy="398520"/>
            <a:chOff x="6240600" y="4241880"/>
            <a:chExt cx="500040" cy="398520"/>
          </a:xfrm>
        </p:grpSpPr>
        <p:sp>
          <p:nvSpPr>
            <p:cNvPr id="108" name=""/>
            <p:cNvSpPr/>
            <p:nvPr/>
          </p:nvSpPr>
          <p:spPr>
            <a:xfrm>
              <a:off x="6283440" y="4272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40600" y="4241880"/>
              <a:ext cx="7596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632480" y="4221000"/>
            <a:ext cx="457200" cy="368280"/>
            <a:chOff x="4632480" y="4221000"/>
            <a:chExt cx="457200" cy="368280"/>
          </a:xfrm>
        </p:grpSpPr>
        <p:sp>
          <p:nvSpPr>
            <p:cNvPr id="111" name=""/>
            <p:cNvSpPr/>
            <p:nvPr/>
          </p:nvSpPr>
          <p:spPr>
            <a:xfrm>
              <a:off x="4632480" y="4221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97440" y="4245120"/>
              <a:ext cx="7632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14600" y="1233360"/>
            <a:ext cx="457200" cy="368280"/>
            <a:chOff x="2514600" y="1233360"/>
            <a:chExt cx="457200" cy="368280"/>
          </a:xfrm>
        </p:grpSpPr>
        <p:sp>
          <p:nvSpPr>
            <p:cNvPr id="114" name=""/>
            <p:cNvSpPr/>
            <p:nvPr/>
          </p:nvSpPr>
          <p:spPr>
            <a:xfrm>
              <a:off x="2514600" y="1233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1270080"/>
              <a:ext cx="7632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032280" y="1270080"/>
            <a:ext cx="457200" cy="372960"/>
            <a:chOff x="3032280" y="1270080"/>
            <a:chExt cx="457200" cy="372960"/>
          </a:xfrm>
        </p:grpSpPr>
        <p:sp>
          <p:nvSpPr>
            <p:cNvPr id="117" name=""/>
            <p:cNvSpPr/>
            <p:nvPr/>
          </p:nvSpPr>
          <p:spPr>
            <a:xfrm>
              <a:off x="3032280" y="1274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94000" y="1270080"/>
              <a:ext cx="7632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17800" y="2341440"/>
            <a:ext cx="547920" cy="368280"/>
            <a:chOff x="3817800" y="2341440"/>
            <a:chExt cx="547920" cy="368280"/>
          </a:xfrm>
        </p:grpSpPr>
        <p:sp>
          <p:nvSpPr>
            <p:cNvPr id="120" name=""/>
            <p:cNvSpPr/>
            <p:nvPr/>
          </p:nvSpPr>
          <p:spPr>
            <a:xfrm>
              <a:off x="3908520" y="2341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17800" y="2619360"/>
              <a:ext cx="7632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540160" y="6059520"/>
            <a:ext cx="457200" cy="368280"/>
            <a:chOff x="2540160" y="6059520"/>
            <a:chExt cx="457200" cy="368280"/>
          </a:xfrm>
        </p:grpSpPr>
        <p:sp>
          <p:nvSpPr>
            <p:cNvPr id="123" name=""/>
            <p:cNvSpPr/>
            <p:nvPr/>
          </p:nvSpPr>
          <p:spPr>
            <a:xfrm>
              <a:off x="2540160" y="6059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68760" y="6096240"/>
              <a:ext cx="7632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83040" y="6087960"/>
            <a:ext cx="457200" cy="368280"/>
            <a:chOff x="3083040" y="6087960"/>
            <a:chExt cx="457200" cy="368280"/>
          </a:xfrm>
        </p:grpSpPr>
        <p:sp>
          <p:nvSpPr>
            <p:cNvPr id="126" name=""/>
            <p:cNvSpPr/>
            <p:nvPr/>
          </p:nvSpPr>
          <p:spPr>
            <a:xfrm>
              <a:off x="3083040" y="6087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06600" y="6095880"/>
              <a:ext cx="76320" cy="763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30760" y="4627440"/>
            <a:ext cx="534960" cy="368280"/>
            <a:chOff x="3830760" y="4627440"/>
            <a:chExt cx="534960" cy="368280"/>
          </a:xfrm>
        </p:grpSpPr>
        <p:sp>
          <p:nvSpPr>
            <p:cNvPr id="129" name=""/>
            <p:cNvSpPr/>
            <p:nvPr/>
          </p:nvSpPr>
          <p:spPr>
            <a:xfrm>
              <a:off x="3908520" y="4627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30760" y="4778280"/>
              <a:ext cx="75960" cy="7632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1520" y="3659040"/>
            <a:ext cx="457200" cy="368280"/>
            <a:chOff x="101520" y="3659040"/>
            <a:chExt cx="457200" cy="368280"/>
          </a:xfrm>
        </p:grpSpPr>
        <p:sp>
          <p:nvSpPr>
            <p:cNvPr id="132" name=""/>
            <p:cNvSpPr/>
            <p:nvPr/>
          </p:nvSpPr>
          <p:spPr>
            <a:xfrm>
              <a:off x="101520" y="3659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0120" y="3695760"/>
              <a:ext cx="7632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7520" y="4208400"/>
            <a:ext cx="457200" cy="368280"/>
            <a:chOff x="47520" y="4208400"/>
            <a:chExt cx="457200" cy="368280"/>
          </a:xfrm>
        </p:grpSpPr>
        <p:sp>
          <p:nvSpPr>
            <p:cNvPr id="135" name=""/>
            <p:cNvSpPr/>
            <p:nvPr/>
          </p:nvSpPr>
          <p:spPr>
            <a:xfrm>
              <a:off x="47520" y="4208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4800" y="4241880"/>
              <a:ext cx="7632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84440" y="4183200"/>
            <a:ext cx="547560" cy="368280"/>
            <a:chOff x="1684440" y="4183200"/>
            <a:chExt cx="547560" cy="368280"/>
          </a:xfrm>
        </p:grpSpPr>
        <p:sp>
          <p:nvSpPr>
            <p:cNvPr id="138" name=""/>
            <p:cNvSpPr/>
            <p:nvPr/>
          </p:nvSpPr>
          <p:spPr>
            <a:xfrm>
              <a:off x="1774800" y="418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84440" y="4245120"/>
              <a:ext cx="7596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23609" t="24032" r="25748" b="17727"/>
          <a:stretch/>
        </p:blipFill>
        <p:spPr>
          <a:xfrm>
            <a:off x="0" y="77004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152280"/>
            <a:ext cx="39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rrection exercic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45991" t="42919" r="45981" b="43182"/>
          <a:stretch/>
        </p:blipFill>
        <p:spPr>
          <a:xfrm>
            <a:off x="2635200" y="5114880"/>
            <a:ext cx="1451160" cy="1411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rcRect l="45480" t="39399" r="44980" b="40016"/>
          <a:stretch/>
        </p:blipFill>
        <p:spPr>
          <a:xfrm>
            <a:off x="6535800" y="2905200"/>
            <a:ext cx="1724040" cy="2089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rcRect l="45449" t="41450" r="46000" b="41635"/>
          <a:stretch/>
        </p:blipFill>
        <p:spPr>
          <a:xfrm>
            <a:off x="4522680" y="3112920"/>
            <a:ext cx="1555920" cy="1729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rcRect l="45480" t="39399" r="44980" b="40016"/>
          <a:stretch/>
        </p:blipFill>
        <p:spPr>
          <a:xfrm>
            <a:off x="549360" y="2908440"/>
            <a:ext cx="1724040" cy="2089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56280" y="2130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82040" y="1022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72480" y="1440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5960" y="264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49160" y="1054080"/>
            <a:ext cx="7670880" cy="4140360"/>
            <a:chOff x="749160" y="1054080"/>
            <a:chExt cx="7670880" cy="4140360"/>
          </a:xfrm>
        </p:grpSpPr>
        <p:sp>
          <p:nvSpPr>
            <p:cNvPr id="151" name=""/>
            <p:cNvSpPr/>
            <p:nvPr/>
          </p:nvSpPr>
          <p:spPr>
            <a:xfrm>
              <a:off x="2717640" y="2854440"/>
              <a:ext cx="13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v. de f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54440" y="287028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v. de gauch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9160" y="287028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v. de droi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5040" y="105408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v. de desso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5040" y="482616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v. de dess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10320" y="2870280"/>
              <a:ext cx="18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v. de derriè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084480" y="3195720"/>
            <a:ext cx="457200" cy="368280"/>
            <a:chOff x="3084480" y="3195720"/>
            <a:chExt cx="457200" cy="368280"/>
          </a:xfrm>
        </p:grpSpPr>
        <p:sp>
          <p:nvSpPr>
            <p:cNvPr id="158" name=""/>
            <p:cNvSpPr/>
            <p:nvPr/>
          </p:nvSpPr>
          <p:spPr>
            <a:xfrm>
              <a:off x="3084480" y="3195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13080" y="3232080"/>
              <a:ext cx="76320" cy="7560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876840" y="3162240"/>
            <a:ext cx="525240" cy="368280"/>
            <a:chOff x="3876840" y="3162240"/>
            <a:chExt cx="525240" cy="368280"/>
          </a:xfrm>
        </p:grpSpPr>
        <p:sp>
          <p:nvSpPr>
            <p:cNvPr id="161" name=""/>
            <p:cNvSpPr/>
            <p:nvPr/>
          </p:nvSpPr>
          <p:spPr>
            <a:xfrm>
              <a:off x="3944880" y="3162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76840" y="3220920"/>
              <a:ext cx="75960" cy="763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1520" y="4576680"/>
            <a:ext cx="547200" cy="368280"/>
            <a:chOff x="3881520" y="4576680"/>
            <a:chExt cx="547200" cy="368280"/>
          </a:xfrm>
        </p:grpSpPr>
        <p:sp>
          <p:nvSpPr>
            <p:cNvPr id="164" name=""/>
            <p:cNvSpPr/>
            <p:nvPr/>
          </p:nvSpPr>
          <p:spPr>
            <a:xfrm>
              <a:off x="3971880" y="45766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1520" y="4651560"/>
              <a:ext cx="7596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072200" y="3195720"/>
            <a:ext cx="457200" cy="368280"/>
            <a:chOff x="7072200" y="3195720"/>
            <a:chExt cx="457200" cy="368280"/>
          </a:xfrm>
        </p:grpSpPr>
        <p:sp>
          <p:nvSpPr>
            <p:cNvPr id="167" name=""/>
            <p:cNvSpPr/>
            <p:nvPr/>
          </p:nvSpPr>
          <p:spPr>
            <a:xfrm>
              <a:off x="7072200" y="3195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00800" y="3232080"/>
              <a:ext cx="76320" cy="7560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459480" y="3162240"/>
            <a:ext cx="457200" cy="368280"/>
            <a:chOff x="6459480" y="3162240"/>
            <a:chExt cx="457200" cy="368280"/>
          </a:xfrm>
        </p:grpSpPr>
        <p:sp>
          <p:nvSpPr>
            <p:cNvPr id="170" name=""/>
            <p:cNvSpPr/>
            <p:nvPr/>
          </p:nvSpPr>
          <p:spPr>
            <a:xfrm>
              <a:off x="6459480" y="3162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34160" y="3220920"/>
              <a:ext cx="76320" cy="763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448320" y="4576680"/>
            <a:ext cx="457200" cy="368280"/>
            <a:chOff x="6448320" y="4576680"/>
            <a:chExt cx="457200" cy="368280"/>
          </a:xfrm>
        </p:grpSpPr>
        <p:sp>
          <p:nvSpPr>
            <p:cNvPr id="173" name=""/>
            <p:cNvSpPr/>
            <p:nvPr/>
          </p:nvSpPr>
          <p:spPr>
            <a:xfrm>
              <a:off x="6448320" y="4576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8840" y="4651200"/>
              <a:ext cx="76320" cy="7632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519440" y="3182760"/>
            <a:ext cx="457200" cy="368280"/>
            <a:chOff x="4519440" y="3182760"/>
            <a:chExt cx="457200" cy="368280"/>
          </a:xfrm>
        </p:grpSpPr>
        <p:sp>
          <p:nvSpPr>
            <p:cNvPr id="176" name=""/>
            <p:cNvSpPr/>
            <p:nvPr/>
          </p:nvSpPr>
          <p:spPr>
            <a:xfrm>
              <a:off x="4519440" y="3182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48040" y="3219480"/>
              <a:ext cx="7632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752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11800" y="3208320"/>
            <a:ext cx="76320" cy="763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888160" y="4564080"/>
            <a:ext cx="547200" cy="368280"/>
            <a:chOff x="5888160" y="4564080"/>
            <a:chExt cx="547200" cy="368280"/>
          </a:xfrm>
        </p:grpSpPr>
        <p:sp>
          <p:nvSpPr>
            <p:cNvPr id="181" name=""/>
            <p:cNvSpPr/>
            <p:nvPr/>
          </p:nvSpPr>
          <p:spPr>
            <a:xfrm>
              <a:off x="5978520" y="45640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88160" y="4638960"/>
              <a:ext cx="7596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03320" y="3182760"/>
            <a:ext cx="507960" cy="368280"/>
            <a:chOff x="1903320" y="3182760"/>
            <a:chExt cx="507960" cy="368280"/>
          </a:xfrm>
        </p:grpSpPr>
        <p:sp>
          <p:nvSpPr>
            <p:cNvPr id="184" name=""/>
            <p:cNvSpPr/>
            <p:nvPr/>
          </p:nvSpPr>
          <p:spPr>
            <a:xfrm>
              <a:off x="1954080" y="3182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3320" y="3232080"/>
              <a:ext cx="76320" cy="763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087560" y="3225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24080" y="3220920"/>
            <a:ext cx="75960" cy="763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9520" y="4576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7080" y="4651200"/>
            <a:ext cx="76320" cy="76320"/>
          </a:xfrm>
          <a:prstGeom prst="ellipse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313080" y="2611440"/>
            <a:ext cx="482760" cy="368280"/>
            <a:chOff x="3313080" y="2611440"/>
            <a:chExt cx="482760" cy="368280"/>
          </a:xfrm>
        </p:grpSpPr>
        <p:sp>
          <p:nvSpPr>
            <p:cNvPr id="191" name=""/>
            <p:cNvSpPr/>
            <p:nvPr/>
          </p:nvSpPr>
          <p:spPr>
            <a:xfrm>
              <a:off x="3338640" y="2611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13080" y="2647800"/>
              <a:ext cx="76320" cy="7632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89440" y="2019240"/>
            <a:ext cx="525240" cy="368280"/>
            <a:chOff x="3889440" y="2019240"/>
            <a:chExt cx="525240" cy="368280"/>
          </a:xfrm>
        </p:grpSpPr>
        <p:sp>
          <p:nvSpPr>
            <p:cNvPr id="194" name=""/>
            <p:cNvSpPr/>
            <p:nvPr/>
          </p:nvSpPr>
          <p:spPr>
            <a:xfrm>
              <a:off x="3957480" y="2019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9440" y="2077920"/>
              <a:ext cx="75960" cy="763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81520" y="1440000"/>
            <a:ext cx="547200" cy="368280"/>
            <a:chOff x="3881520" y="1440000"/>
            <a:chExt cx="547200" cy="368280"/>
          </a:xfrm>
        </p:grpSpPr>
        <p:sp>
          <p:nvSpPr>
            <p:cNvPr id="197" name=""/>
            <p:cNvSpPr/>
            <p:nvPr/>
          </p:nvSpPr>
          <p:spPr>
            <a:xfrm>
              <a:off x="3971880" y="14400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81520" y="1514520"/>
              <a:ext cx="75960" cy="7560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313080" y="5151600"/>
            <a:ext cx="469800" cy="368280"/>
            <a:chOff x="3313080" y="5151600"/>
            <a:chExt cx="469800" cy="368280"/>
          </a:xfrm>
        </p:grpSpPr>
        <p:sp>
          <p:nvSpPr>
            <p:cNvPr id="200" name=""/>
            <p:cNvSpPr/>
            <p:nvPr/>
          </p:nvSpPr>
          <p:spPr>
            <a:xfrm>
              <a:off x="3325680" y="5151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13080" y="5226120"/>
              <a:ext cx="76320" cy="75960"/>
            </a:xfrm>
            <a:prstGeom prst="ellipse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9440" y="5740560"/>
            <a:ext cx="525240" cy="368280"/>
            <a:chOff x="3889440" y="5740560"/>
            <a:chExt cx="525240" cy="368280"/>
          </a:xfrm>
        </p:grpSpPr>
        <p:sp>
          <p:nvSpPr>
            <p:cNvPr id="203" name=""/>
            <p:cNvSpPr/>
            <p:nvPr/>
          </p:nvSpPr>
          <p:spPr>
            <a:xfrm>
              <a:off x="3957480" y="5740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89440" y="5798880"/>
              <a:ext cx="75960" cy="759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881520" y="6278400"/>
            <a:ext cx="547200" cy="368280"/>
            <a:chOff x="3881520" y="6278400"/>
            <a:chExt cx="547200" cy="368280"/>
          </a:xfrm>
        </p:grpSpPr>
        <p:sp>
          <p:nvSpPr>
            <p:cNvPr id="206" name=""/>
            <p:cNvSpPr/>
            <p:nvPr/>
          </p:nvSpPr>
          <p:spPr>
            <a:xfrm>
              <a:off x="3971880" y="62784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1520" y="6353280"/>
              <a:ext cx="75960" cy="75960"/>
            </a:xfrm>
            <a:prstGeom prst="ellipse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43828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IN DE L’EXERC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walking" descr=""/>
          <p:cNvPicPr/>
          <p:nvPr/>
        </p:nvPicPr>
        <p:blipFill>
          <a:blip r:embed="rId1"/>
          <a:stretch/>
        </p:blipFill>
        <p:spPr>
          <a:xfrm>
            <a:off x="5900760" y="1447920"/>
            <a:ext cx="2679840" cy="2679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984320" y="76320"/>
            <a:ext cx="49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xercice vue de face N°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5:55:11Z</dcterms:created>
  <dc:creator>Jacques</dc:creator>
  <dc:description/>
  <dc:language>en-US</dc:language>
  <cp:lastModifiedBy>Jacques</cp:lastModifiedBy>
  <dcterms:modified xsi:type="dcterms:W3CDTF">2006-09-17T12:48:26Z</dcterms:modified>
  <cp:revision>14</cp:revision>
  <dc:subject/>
  <dc:title>Présentation PowerPoint</dc:title>
</cp:coreProperties>
</file>