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346-E078-42F8-B492-8F3FCD41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1BA-0816-4753-B64F-2A09794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602-3CEC-48E1-B044-5BF70B30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A4A-320A-421E-8A1C-926C818B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CEA-C53A-4009-B1E0-2A78B7A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5B6-B1AE-4AC9-B035-835790DB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D6A-CAE1-4B46-9519-87F3BE3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8BD-CDE0-4271-AED0-69A9A6B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6ED-B340-498F-AA89-5985C8F0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B30-632F-4D04-83FC-88E6315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622-A60D-4C39-A1E2-ECBECCE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FD7-A17D-4F2C-82CE-77FBB74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4794-CC23-4839-8F07-F60EF76BC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5200" y="2422440"/>
            <a:ext cx="49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ercice vue de face N°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0000" t="18018" r="26620" b="16735"/>
          <a:stretch/>
        </p:blipFill>
        <p:spPr>
          <a:xfrm>
            <a:off x="685800" y="0"/>
            <a:ext cx="8077320" cy="682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3078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v. de 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514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279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v. de dess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286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es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3063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v. de gau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37000" y="103500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gau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0639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cc"/>
                </a:solidFill>
                <a:latin typeface="Verdana"/>
              </a:rPr>
              <a:t>v. de dro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330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cc"/>
                </a:solidFill>
                <a:latin typeface="Verdana"/>
              </a:rPr>
              <a:t>dro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861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Verdana"/>
              </a:rPr>
              <a:t>v. de des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8353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Verdana"/>
              </a:rPr>
              <a:t>dess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3063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. de derriè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50292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osition des vues et place de l’observ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8380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rriè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4800" y="277920"/>
            <a:ext cx="20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52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Verdana"/>
              </a:rPr>
              <a:t>Exercic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2016" t="25108" r="27339" b="16757"/>
          <a:stretch/>
        </p:blipFill>
        <p:spPr>
          <a:xfrm>
            <a:off x="3240" y="682560"/>
            <a:ext cx="9139320" cy="5896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4885" t="39735" r="44822" b="40184"/>
          <a:stretch/>
        </p:blipFill>
        <p:spPr>
          <a:xfrm>
            <a:off x="446040" y="2882880"/>
            <a:ext cx="1860480" cy="2038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44756" t="42095" r="44539" b="41703"/>
          <a:stretch/>
        </p:blipFill>
        <p:spPr>
          <a:xfrm>
            <a:off x="2575080" y="1409760"/>
            <a:ext cx="1939680" cy="165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792920" y="16970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219320"/>
            <a:ext cx="8534520" cy="3797280"/>
            <a:chOff x="228600" y="1219320"/>
            <a:chExt cx="8534520" cy="3797280"/>
          </a:xfrm>
        </p:grpSpPr>
        <p:sp>
          <p:nvSpPr>
            <p:cNvPr id="63" name=""/>
            <p:cNvSpPr/>
            <p:nvPr/>
          </p:nvSpPr>
          <p:spPr>
            <a:xfrm>
              <a:off x="2755800" y="295596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48280" y="29718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gauch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600" y="29718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droi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121932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43200" y="464832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53400" y="297180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derriè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84872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178160" y="3214800"/>
            <a:ext cx="546120" cy="368280"/>
            <a:chOff x="4178160" y="3214800"/>
            <a:chExt cx="546120" cy="368280"/>
          </a:xfrm>
        </p:grpSpPr>
        <p:sp>
          <p:nvSpPr>
            <p:cNvPr id="71" name=""/>
            <p:cNvSpPr/>
            <p:nvPr/>
          </p:nvSpPr>
          <p:spPr>
            <a:xfrm>
              <a:off x="4267080" y="32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8160" y="331488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172200" y="3214800"/>
            <a:ext cx="533520" cy="368280"/>
            <a:chOff x="6172200" y="3214800"/>
            <a:chExt cx="533520" cy="368280"/>
          </a:xfrm>
        </p:grpSpPr>
        <p:sp>
          <p:nvSpPr>
            <p:cNvPr id="74" name=""/>
            <p:cNvSpPr/>
            <p:nvPr/>
          </p:nvSpPr>
          <p:spPr>
            <a:xfrm>
              <a:off x="6248520" y="32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332748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210200" y="1447920"/>
            <a:ext cx="514080" cy="368280"/>
            <a:chOff x="4210200" y="1447920"/>
            <a:chExt cx="514080" cy="368280"/>
          </a:xfrm>
        </p:grpSpPr>
        <p:sp>
          <p:nvSpPr>
            <p:cNvPr id="77" name=""/>
            <p:cNvSpPr/>
            <p:nvPr/>
          </p:nvSpPr>
          <p:spPr>
            <a:xfrm>
              <a:off x="4267080" y="1447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10200" y="1598760"/>
              <a:ext cx="7596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7200" y="3200400"/>
            <a:ext cx="457200" cy="368280"/>
            <a:chOff x="457200" y="3200400"/>
            <a:chExt cx="457200" cy="368280"/>
          </a:xfrm>
        </p:grpSpPr>
        <p:sp>
          <p:nvSpPr>
            <p:cNvPr id="80" name=""/>
            <p:cNvSpPr/>
            <p:nvPr/>
          </p:nvSpPr>
          <p:spPr>
            <a:xfrm>
              <a:off x="457200" y="32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4200" y="3335400"/>
              <a:ext cx="7596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781680" y="3200400"/>
            <a:ext cx="457200" cy="368280"/>
            <a:chOff x="6781680" y="3200400"/>
            <a:chExt cx="457200" cy="368280"/>
          </a:xfrm>
        </p:grpSpPr>
        <p:sp>
          <p:nvSpPr>
            <p:cNvPr id="83" name=""/>
            <p:cNvSpPr/>
            <p:nvPr/>
          </p:nvSpPr>
          <p:spPr>
            <a:xfrm>
              <a:off x="6781680" y="3200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47000" y="3324240"/>
              <a:ext cx="75960" cy="763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213080" y="5943600"/>
            <a:ext cx="511200" cy="368280"/>
            <a:chOff x="4213080" y="5943600"/>
            <a:chExt cx="511200" cy="368280"/>
          </a:xfrm>
        </p:grpSpPr>
        <p:sp>
          <p:nvSpPr>
            <p:cNvPr id="86" name=""/>
            <p:cNvSpPr/>
            <p:nvPr/>
          </p:nvSpPr>
          <p:spPr>
            <a:xfrm>
              <a:off x="4267080" y="5943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13080" y="6154560"/>
              <a:ext cx="76320" cy="763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326280" y="930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48000" y="3243240"/>
            <a:ext cx="457200" cy="368280"/>
            <a:chOff x="2448000" y="3243240"/>
            <a:chExt cx="457200" cy="368280"/>
          </a:xfrm>
        </p:grpSpPr>
        <p:sp>
          <p:nvSpPr>
            <p:cNvPr id="90" name=""/>
            <p:cNvSpPr/>
            <p:nvPr/>
          </p:nvSpPr>
          <p:spPr>
            <a:xfrm>
              <a:off x="2448000" y="3243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73440" y="3314880"/>
              <a:ext cx="7596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11800" y="3241800"/>
            <a:ext cx="457200" cy="368280"/>
            <a:chOff x="5311800" y="3241800"/>
            <a:chExt cx="457200" cy="368280"/>
          </a:xfrm>
        </p:grpSpPr>
        <p:sp>
          <p:nvSpPr>
            <p:cNvPr id="93" name=""/>
            <p:cNvSpPr/>
            <p:nvPr/>
          </p:nvSpPr>
          <p:spPr>
            <a:xfrm>
              <a:off x="5311800" y="324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8160" y="3311640"/>
              <a:ext cx="7632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24080" y="3241800"/>
            <a:ext cx="520560" cy="368280"/>
            <a:chOff x="1324080" y="3241800"/>
            <a:chExt cx="520560" cy="368280"/>
          </a:xfrm>
        </p:grpSpPr>
        <p:sp>
          <p:nvSpPr>
            <p:cNvPr id="96" name=""/>
            <p:cNvSpPr/>
            <p:nvPr/>
          </p:nvSpPr>
          <p:spPr>
            <a:xfrm>
              <a:off x="1387440" y="324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24080" y="3322800"/>
              <a:ext cx="7596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00200" y="1996920"/>
            <a:ext cx="457200" cy="368280"/>
            <a:chOff x="2500200" y="1996920"/>
            <a:chExt cx="457200" cy="368280"/>
          </a:xfrm>
        </p:grpSpPr>
        <p:sp>
          <p:nvSpPr>
            <p:cNvPr id="99" name=""/>
            <p:cNvSpPr/>
            <p:nvPr/>
          </p:nvSpPr>
          <p:spPr>
            <a:xfrm>
              <a:off x="2500200" y="1996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65520" y="2179800"/>
              <a:ext cx="7596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489040" y="5429160"/>
            <a:ext cx="457200" cy="368280"/>
            <a:chOff x="2489040" y="5429160"/>
            <a:chExt cx="457200" cy="368280"/>
          </a:xfrm>
        </p:grpSpPr>
        <p:sp>
          <p:nvSpPr>
            <p:cNvPr id="102" name=""/>
            <p:cNvSpPr/>
            <p:nvPr/>
          </p:nvSpPr>
          <p:spPr>
            <a:xfrm>
              <a:off x="2489040" y="5429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81360" y="5589720"/>
              <a:ext cx="7632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477280" y="3228840"/>
            <a:ext cx="473040" cy="368280"/>
            <a:chOff x="8477280" y="3228840"/>
            <a:chExt cx="473040" cy="368280"/>
          </a:xfrm>
        </p:grpSpPr>
        <p:sp>
          <p:nvSpPr>
            <p:cNvPr id="105" name=""/>
            <p:cNvSpPr/>
            <p:nvPr/>
          </p:nvSpPr>
          <p:spPr>
            <a:xfrm>
              <a:off x="8493120" y="3228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77280" y="3322800"/>
              <a:ext cx="7632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992920" y="1347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70360" y="3740040"/>
            <a:ext cx="457200" cy="368280"/>
            <a:chOff x="4770360" y="3740040"/>
            <a:chExt cx="457200" cy="368280"/>
          </a:xfrm>
        </p:grpSpPr>
        <p:sp>
          <p:nvSpPr>
            <p:cNvPr id="109" name=""/>
            <p:cNvSpPr/>
            <p:nvPr/>
          </p:nvSpPr>
          <p:spPr>
            <a:xfrm>
              <a:off x="4770360" y="3740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57640" y="3892680"/>
              <a:ext cx="7632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470800" y="3727440"/>
            <a:ext cx="381240" cy="368280"/>
            <a:chOff x="8470800" y="3727440"/>
            <a:chExt cx="381240" cy="368280"/>
          </a:xfrm>
        </p:grpSpPr>
        <p:sp>
          <p:nvSpPr>
            <p:cNvPr id="112" name=""/>
            <p:cNvSpPr/>
            <p:nvPr/>
          </p:nvSpPr>
          <p:spPr>
            <a:xfrm>
              <a:off x="8513640" y="372744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0800" y="3887640"/>
              <a:ext cx="76320" cy="7632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86160" y="3713040"/>
            <a:ext cx="457200" cy="368280"/>
            <a:chOff x="2486160" y="3713040"/>
            <a:chExt cx="457200" cy="368280"/>
          </a:xfrm>
        </p:grpSpPr>
        <p:sp>
          <p:nvSpPr>
            <p:cNvPr id="115" name=""/>
            <p:cNvSpPr/>
            <p:nvPr/>
          </p:nvSpPr>
          <p:spPr>
            <a:xfrm>
              <a:off x="2486160" y="3713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3720" y="3889440"/>
              <a:ext cx="7632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00200" y="2571840"/>
            <a:ext cx="457200" cy="368280"/>
            <a:chOff x="2500200" y="2571840"/>
            <a:chExt cx="457200" cy="368280"/>
          </a:xfrm>
        </p:grpSpPr>
        <p:sp>
          <p:nvSpPr>
            <p:cNvPr id="118" name=""/>
            <p:cNvSpPr/>
            <p:nvPr/>
          </p:nvSpPr>
          <p:spPr>
            <a:xfrm>
              <a:off x="2500200" y="2571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73440" y="273384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09800" y="3726000"/>
            <a:ext cx="514440" cy="368280"/>
            <a:chOff x="1909800" y="3726000"/>
            <a:chExt cx="514440" cy="368280"/>
          </a:xfrm>
        </p:grpSpPr>
        <p:sp>
          <p:nvSpPr>
            <p:cNvPr id="121" name=""/>
            <p:cNvSpPr/>
            <p:nvPr/>
          </p:nvSpPr>
          <p:spPr>
            <a:xfrm>
              <a:off x="1967040" y="372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9800" y="3884760"/>
              <a:ext cx="7632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489040" y="4879800"/>
            <a:ext cx="457200" cy="368280"/>
            <a:chOff x="2489040" y="4879800"/>
            <a:chExt cx="457200" cy="368280"/>
          </a:xfrm>
        </p:grpSpPr>
        <p:sp>
          <p:nvSpPr>
            <p:cNvPr id="124" name=""/>
            <p:cNvSpPr/>
            <p:nvPr/>
          </p:nvSpPr>
          <p:spPr>
            <a:xfrm>
              <a:off x="2489040" y="4879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71640" y="5029200"/>
              <a:ext cx="76320" cy="7632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4"/>
          <a:srcRect l="44661" t="41753" r="44661" b="41641"/>
          <a:stretch/>
        </p:blipFill>
        <p:spPr>
          <a:xfrm>
            <a:off x="6819840" y="3084480"/>
            <a:ext cx="1940040" cy="169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4661" t="41753" r="44661" b="41641"/>
          <a:stretch/>
        </p:blipFill>
        <p:spPr>
          <a:xfrm>
            <a:off x="2552760" y="4797360"/>
            <a:ext cx="1940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23906" t="20518" r="26636" b="19330"/>
          <a:stretch/>
        </p:blipFill>
        <p:spPr>
          <a:xfrm>
            <a:off x="187200" y="631800"/>
            <a:ext cx="8931240" cy="610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152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Verdana"/>
              </a:rPr>
              <a:t>Exercic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795" t="41305" r="45767" b="40800"/>
          <a:stretch/>
        </p:blipFill>
        <p:spPr>
          <a:xfrm>
            <a:off x="6537240" y="2889360"/>
            <a:ext cx="1528920" cy="18208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69800" y="888840"/>
            <a:ext cx="7823160" cy="4140360"/>
            <a:chOff x="469800" y="888840"/>
            <a:chExt cx="7823160" cy="4140360"/>
          </a:xfrm>
        </p:grpSpPr>
        <p:sp>
          <p:nvSpPr>
            <p:cNvPr id="132" name=""/>
            <p:cNvSpPr/>
            <p:nvPr/>
          </p:nvSpPr>
          <p:spPr>
            <a:xfrm>
              <a:off x="2629080" y="266400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16280" y="2679840"/>
              <a:ext cx="18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gauch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9800" y="26798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droi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41680" y="8888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03520" y="466092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3240" y="26798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derriè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rcRect l="45326" t="40016" r="45102" b="41478"/>
          <a:stretch/>
        </p:blipFill>
        <p:spPr>
          <a:xfrm>
            <a:off x="2462040" y="909720"/>
            <a:ext cx="172728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45231" t="40408" r="45326" b="40862"/>
          <a:stretch/>
        </p:blipFill>
        <p:spPr>
          <a:xfrm>
            <a:off x="4443480" y="2798640"/>
            <a:ext cx="1706400" cy="190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rcRect l="45795" t="41305" r="45767" b="40800"/>
          <a:stretch/>
        </p:blipFill>
        <p:spPr>
          <a:xfrm>
            <a:off x="538200" y="2879640"/>
            <a:ext cx="1528560" cy="1820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792920" y="16970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927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9160" y="2371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83360" y="2287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48040" y="2935440"/>
            <a:ext cx="546120" cy="368280"/>
            <a:chOff x="3848040" y="2935440"/>
            <a:chExt cx="546120" cy="368280"/>
          </a:xfrm>
        </p:grpSpPr>
        <p:sp>
          <p:nvSpPr>
            <p:cNvPr id="146" name=""/>
            <p:cNvSpPr/>
            <p:nvPr/>
          </p:nvSpPr>
          <p:spPr>
            <a:xfrm>
              <a:off x="3936960" y="2935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48040" y="303552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42080" y="2922480"/>
            <a:ext cx="532800" cy="368280"/>
            <a:chOff x="5842080" y="2922480"/>
            <a:chExt cx="532800" cy="368280"/>
          </a:xfrm>
        </p:grpSpPr>
        <p:sp>
          <p:nvSpPr>
            <p:cNvPr id="149" name=""/>
            <p:cNvSpPr/>
            <p:nvPr/>
          </p:nvSpPr>
          <p:spPr>
            <a:xfrm>
              <a:off x="5918040" y="292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42080" y="3035160"/>
              <a:ext cx="7596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28960" y="1168560"/>
            <a:ext cx="514080" cy="368280"/>
            <a:chOff x="3828960" y="1168560"/>
            <a:chExt cx="514080" cy="368280"/>
          </a:xfrm>
        </p:grpSpPr>
        <p:sp>
          <p:nvSpPr>
            <p:cNvPr id="152" name=""/>
            <p:cNvSpPr/>
            <p:nvPr/>
          </p:nvSpPr>
          <p:spPr>
            <a:xfrm>
              <a:off x="3885840" y="1168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28960" y="1319400"/>
              <a:ext cx="7596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6440" y="2857680"/>
            <a:ext cx="457200" cy="368280"/>
            <a:chOff x="406440" y="2857680"/>
            <a:chExt cx="457200" cy="368280"/>
          </a:xfrm>
        </p:grpSpPr>
        <p:sp>
          <p:nvSpPr>
            <p:cNvPr id="155" name=""/>
            <p:cNvSpPr/>
            <p:nvPr/>
          </p:nvSpPr>
          <p:spPr>
            <a:xfrm>
              <a:off x="406440" y="2857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3440" y="2992320"/>
              <a:ext cx="75960" cy="75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426360" y="2895480"/>
            <a:ext cx="457200" cy="368280"/>
            <a:chOff x="6426360" y="2895480"/>
            <a:chExt cx="457200" cy="368280"/>
          </a:xfrm>
        </p:grpSpPr>
        <p:sp>
          <p:nvSpPr>
            <p:cNvPr id="158" name=""/>
            <p:cNvSpPr/>
            <p:nvPr/>
          </p:nvSpPr>
          <p:spPr>
            <a:xfrm>
              <a:off x="642636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1680" y="3019320"/>
              <a:ext cx="75960" cy="763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832200" y="5943600"/>
            <a:ext cx="511200" cy="368280"/>
            <a:chOff x="3832200" y="5943600"/>
            <a:chExt cx="511200" cy="368280"/>
          </a:xfrm>
        </p:grpSpPr>
        <p:sp>
          <p:nvSpPr>
            <p:cNvPr id="161" name=""/>
            <p:cNvSpPr/>
            <p:nvPr/>
          </p:nvSpPr>
          <p:spPr>
            <a:xfrm>
              <a:off x="3886200" y="5943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32200" y="6154560"/>
              <a:ext cx="76320" cy="763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70080" y="4444920"/>
            <a:ext cx="457200" cy="372960"/>
            <a:chOff x="3070080" y="4444920"/>
            <a:chExt cx="457200" cy="372960"/>
          </a:xfrm>
        </p:grpSpPr>
        <p:sp>
          <p:nvSpPr>
            <p:cNvPr id="164" name=""/>
            <p:cNvSpPr/>
            <p:nvPr/>
          </p:nvSpPr>
          <p:spPr>
            <a:xfrm>
              <a:off x="3070080" y="4449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68800" y="4444920"/>
              <a:ext cx="7596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834160" y="4441680"/>
            <a:ext cx="480960" cy="387360"/>
            <a:chOff x="5834160" y="4441680"/>
            <a:chExt cx="480960" cy="387360"/>
          </a:xfrm>
        </p:grpSpPr>
        <p:sp>
          <p:nvSpPr>
            <p:cNvPr id="167" name=""/>
            <p:cNvSpPr/>
            <p:nvPr/>
          </p:nvSpPr>
          <p:spPr>
            <a:xfrm>
              <a:off x="5857920" y="4460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34160" y="4441680"/>
              <a:ext cx="7596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47840" y="4440240"/>
            <a:ext cx="457200" cy="388800"/>
            <a:chOff x="447840" y="4440240"/>
            <a:chExt cx="457200" cy="388800"/>
          </a:xfrm>
        </p:grpSpPr>
        <p:sp>
          <p:nvSpPr>
            <p:cNvPr id="170" name=""/>
            <p:cNvSpPr/>
            <p:nvPr/>
          </p:nvSpPr>
          <p:spPr>
            <a:xfrm>
              <a:off x="447840" y="4460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9040" y="4440240"/>
              <a:ext cx="7596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008160" y="1133640"/>
            <a:ext cx="457200" cy="368280"/>
            <a:chOff x="3008160" y="1133640"/>
            <a:chExt cx="457200" cy="368280"/>
          </a:xfrm>
        </p:grpSpPr>
        <p:sp>
          <p:nvSpPr>
            <p:cNvPr id="173" name=""/>
            <p:cNvSpPr/>
            <p:nvPr/>
          </p:nvSpPr>
          <p:spPr>
            <a:xfrm>
              <a:off x="3008160" y="1133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3480" y="1316160"/>
              <a:ext cx="75960" cy="7560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84400" y="5987880"/>
            <a:ext cx="457200" cy="368280"/>
            <a:chOff x="2984400" y="5987880"/>
            <a:chExt cx="457200" cy="368280"/>
          </a:xfrm>
        </p:grpSpPr>
        <p:sp>
          <p:nvSpPr>
            <p:cNvPr id="176" name=""/>
            <p:cNvSpPr/>
            <p:nvPr/>
          </p:nvSpPr>
          <p:spPr>
            <a:xfrm>
              <a:off x="2984400" y="5987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6720" y="6148440"/>
              <a:ext cx="7632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210440" y="4440240"/>
            <a:ext cx="457200" cy="401760"/>
            <a:chOff x="7210440" y="4440240"/>
            <a:chExt cx="457200" cy="401760"/>
          </a:xfrm>
        </p:grpSpPr>
        <p:sp>
          <p:nvSpPr>
            <p:cNvPr id="179" name=""/>
            <p:cNvSpPr/>
            <p:nvPr/>
          </p:nvSpPr>
          <p:spPr>
            <a:xfrm>
              <a:off x="7210440" y="4473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57960" y="4440240"/>
              <a:ext cx="7632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024520" y="4413240"/>
            <a:ext cx="457200" cy="368280"/>
            <a:chOff x="5024520" y="4413240"/>
            <a:chExt cx="457200" cy="368280"/>
          </a:xfrm>
        </p:grpSpPr>
        <p:sp>
          <p:nvSpPr>
            <p:cNvPr id="182" name=""/>
            <p:cNvSpPr/>
            <p:nvPr/>
          </p:nvSpPr>
          <p:spPr>
            <a:xfrm>
              <a:off x="5024520" y="4413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61040" y="443880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823160" y="4286160"/>
            <a:ext cx="380520" cy="368280"/>
            <a:chOff x="7823160" y="4286160"/>
            <a:chExt cx="380520" cy="368280"/>
          </a:xfrm>
        </p:grpSpPr>
        <p:sp>
          <p:nvSpPr>
            <p:cNvPr id="185" name=""/>
            <p:cNvSpPr/>
            <p:nvPr/>
          </p:nvSpPr>
          <p:spPr>
            <a:xfrm>
              <a:off x="7865640" y="428616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23160" y="4446360"/>
              <a:ext cx="75960" cy="7632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422440" y="4233960"/>
            <a:ext cx="457200" cy="368280"/>
            <a:chOff x="2422440" y="4233960"/>
            <a:chExt cx="457200" cy="368280"/>
          </a:xfrm>
        </p:grpSpPr>
        <p:sp>
          <p:nvSpPr>
            <p:cNvPr id="188" name=""/>
            <p:cNvSpPr/>
            <p:nvPr/>
          </p:nvSpPr>
          <p:spPr>
            <a:xfrm>
              <a:off x="2422440" y="423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00000" y="4410000"/>
              <a:ext cx="76320" cy="7560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24240" y="1733400"/>
            <a:ext cx="457200" cy="368280"/>
            <a:chOff x="2424240" y="1733400"/>
            <a:chExt cx="457200" cy="368280"/>
          </a:xfrm>
        </p:grpSpPr>
        <p:sp>
          <p:nvSpPr>
            <p:cNvPr id="191" name=""/>
            <p:cNvSpPr/>
            <p:nvPr/>
          </p:nvSpPr>
          <p:spPr>
            <a:xfrm>
              <a:off x="2424240" y="173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97480" y="189540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255680" y="4437000"/>
            <a:ext cx="457200" cy="368280"/>
            <a:chOff x="1255680" y="4437000"/>
            <a:chExt cx="457200" cy="368280"/>
          </a:xfrm>
        </p:grpSpPr>
        <p:sp>
          <p:nvSpPr>
            <p:cNvPr id="194" name=""/>
            <p:cNvSpPr/>
            <p:nvPr/>
          </p:nvSpPr>
          <p:spPr>
            <a:xfrm>
              <a:off x="1255680" y="4437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74760" y="4456080"/>
              <a:ext cx="76320" cy="7632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425680" y="5425920"/>
            <a:ext cx="457200" cy="368280"/>
            <a:chOff x="2425680" y="5425920"/>
            <a:chExt cx="457200" cy="368280"/>
          </a:xfrm>
        </p:grpSpPr>
        <p:sp>
          <p:nvSpPr>
            <p:cNvPr id="197" name=""/>
            <p:cNvSpPr/>
            <p:nvPr/>
          </p:nvSpPr>
          <p:spPr>
            <a:xfrm>
              <a:off x="2425680" y="5425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08280" y="5575320"/>
              <a:ext cx="76320" cy="7632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IN DE L’EXERC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walking" descr=""/>
          <p:cNvPicPr/>
          <p:nvPr/>
        </p:nvPicPr>
        <p:blipFill>
          <a:blip r:embed="rId1"/>
          <a:stretch/>
        </p:blipFill>
        <p:spPr>
          <a:xfrm>
            <a:off x="5900760" y="1447920"/>
            <a:ext cx="2679840" cy="2679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84320" y="76320"/>
            <a:ext cx="49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ercice vue de face N°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5:55:11Z</dcterms:created>
  <dc:creator>Jacques</dc:creator>
  <dc:description/>
  <dc:language>en-US</dc:language>
  <cp:lastModifiedBy>Jacques</cp:lastModifiedBy>
  <dcterms:modified xsi:type="dcterms:W3CDTF">2006-09-17T14:07:27Z</dcterms:modified>
  <cp:revision>13</cp:revision>
  <dc:subject/>
  <dc:title>Présentation PowerPoint</dc:title>
</cp:coreProperties>
</file>