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8A6-F4F3-454A-982B-F8799DB1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05D-6075-43A6-92C2-E2201C06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8AC-174C-4EF8-BBA8-D05794C6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2C8-EE72-459D-AC6C-7915108F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8A8-4524-4667-ABD0-FA92A21B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EB9-1300-440D-B4A7-0D9E1527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B55-CA00-4139-AAA9-4ECAE08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F36-59C5-4557-B8D1-7C18ACC2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AFE-4E5E-4C62-A02A-B4CE63E8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F87-33D0-43C1-B9C8-BCC3D91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148-F27C-4395-A162-32FFB36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3B7-3D87-4C39-A35E-6C1FBAD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3C1-6B58-4AA1-96E0-BD0A225A7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4960" y="24829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Calcul de jeux ajustements N°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772400" y="52578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rt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15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45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52 + 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72400" y="43434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rr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4800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- 82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14 -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5257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+ 16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257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+ 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25780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buClr>
                <a:srgbClr val="ffcc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- 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2578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5257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34290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rr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886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76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886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61 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343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- 17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343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+ 26 - 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34340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+ 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+ 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4343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343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+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2514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rt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2971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- 24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2971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24 -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429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25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429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18 - 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429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+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+ 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4290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buClr>
                <a:srgbClr val="99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16002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vec j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2057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+ 60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2057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 +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514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+ 120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514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+ 5 +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251460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-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25146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+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- 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1600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+ 152µ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600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+ 46  + 1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60020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- 1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6002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+ 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320" y="685800"/>
            <a:ext cx="8915400" cy="5486400"/>
            <a:chOff x="76320" y="685800"/>
            <a:chExt cx="8915400" cy="5486400"/>
          </a:xfrm>
        </p:grpSpPr>
        <p:sp>
          <p:nvSpPr>
            <p:cNvPr id="83" name=""/>
            <p:cNvSpPr/>
            <p:nvPr/>
          </p:nvSpPr>
          <p:spPr>
            <a:xfrm>
              <a:off x="4038480" y="57150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in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48006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in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38480" y="52578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ax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280" y="5257800"/>
              <a:ext cx="1371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0 N9 / g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38862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in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43434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ax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280" y="4343400"/>
              <a:ext cx="1371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50 J7 / p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38480" y="29718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in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34290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ax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280" y="3429000"/>
              <a:ext cx="1371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8 P9 / m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20574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in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38480" y="25146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ax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20" y="2514600"/>
              <a:ext cx="1600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250 K6 / h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16002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axi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1600200"/>
              <a:ext cx="1371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55 H8 / e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2400" y="685800"/>
              <a:ext cx="1219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type d’ajust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29400" y="685800"/>
              <a:ext cx="1143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ésulta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685800"/>
              <a:ext cx="1600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péra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685800"/>
              <a:ext cx="1066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eu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4080" y="685800"/>
              <a:ext cx="838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écarts arb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68580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igne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6858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écarts alés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685800"/>
              <a:ext cx="1371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juste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6320" y="685800"/>
            <a:ext cx="8915400" cy="5486400"/>
            <a:chOff x="76320" y="685800"/>
            <a:chExt cx="8915400" cy="5486400"/>
          </a:xfrm>
        </p:grpSpPr>
        <p:sp>
          <p:nvSpPr>
            <p:cNvPr id="107" name=""/>
            <p:cNvSpPr/>
            <p:nvPr/>
          </p:nvSpPr>
          <p:spPr>
            <a:xfrm>
              <a:off x="76320" y="16002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320" y="685800"/>
              <a:ext cx="8915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20" y="6172200"/>
              <a:ext cx="8915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20" y="685800"/>
              <a:ext cx="0" cy="54864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91720" y="685800"/>
              <a:ext cx="0" cy="54864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72400" y="685800"/>
              <a:ext cx="0" cy="54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20" y="25146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2057400"/>
              <a:ext cx="3809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20" y="34290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2520" y="2971800"/>
              <a:ext cx="3809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320" y="43434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520" y="3886200"/>
              <a:ext cx="3809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320" y="525780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62520" y="4800600"/>
              <a:ext cx="3809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5715000"/>
              <a:ext cx="3809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1219320" y="177840"/>
            <a:ext cx="1371600" cy="337320"/>
          </a:xfrm>
          <a:prstGeom prst="rect">
            <a:avLst/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lésa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2971800" y="177840"/>
            <a:ext cx="1371600" cy="3373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b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Ecarts%20alésages" descr=""/>
          <p:cNvPicPr/>
          <p:nvPr/>
        </p:nvPicPr>
        <p:blipFill>
          <a:blip r:embed="rId1"/>
          <a:stretch/>
        </p:blipFill>
        <p:spPr>
          <a:xfrm>
            <a:off x="914400" y="76320"/>
            <a:ext cx="7391520" cy="67053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228600" y="1447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0"/>
            <a:ext cx="762120" cy="5335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228600" y="1447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tableau%20écarts%20arbres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8153280" cy="5241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380880"/>
            <a:ext cx="762120" cy="5335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02:39Z</dcterms:created>
  <dc:creator>jacques fraboulet</dc:creator>
  <dc:description/>
  <dc:language>en-US</dc:language>
  <cp:lastModifiedBy>jacques fraboulet</cp:lastModifiedBy>
  <dcterms:modified xsi:type="dcterms:W3CDTF">2005-12-13T20:58:49Z</dcterms:modified>
  <cp:revision>8</cp:revision>
  <dc:subject/>
  <dc:title>Présentation PowerPoint</dc:title>
</cp:coreProperties>
</file>